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02DC-42AA-4C0D-B1E6-BCDB92E7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A8B6-8ADE-4E14-84D4-74290BAA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B9C43-CB9E-40A5-899B-F2E00CA29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ECF7D-A057-49A7-AF58-5EF68CC2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BF6ED-373A-4630-8763-E0786657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414E2-9003-451D-BD7C-4F3A275A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FFC87-DBA4-41C0-8BDC-48BB0BDA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157DB-EEFF-4099-A3EE-D5DEF0E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7DB46-9EB7-40C1-8D7B-070A5A12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1E1BF-3732-452E-A0D8-ABCE357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470AC-C010-4113-9327-9BFDD761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9F8A85-EB14-4150-B329-72D4C4F6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559-3AB7-41D6-8FB8-15253C25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632BB4-CA14-4DD2-8658-9F453BB4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23F88-BFE6-4AB2-B947-01C0E559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BACD9-4E4D-403F-AE1F-91E820C7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59C3-7190-49AA-A355-C2680439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B2237-03F0-4FF1-8A5D-D165D734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1507E-14E6-4339-A8A0-4AEEF49D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E9176-20F1-45EB-82DF-CA11606CF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7225A-6CB3-4E25-9B2C-6051832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3BEB2-E1F0-4668-BAB7-AAC5837F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8496B7-FA59-4D08-9D69-2FF0899B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743-2288-4841-973E-4189A9DC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2574B-6992-4210-9F38-F5981E84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2A28E-4902-4E49-B11A-96824A12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BC8C4-76C3-4621-A529-1E9F1CF3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BB26A-5CDA-4565-97AD-E1C5DD2C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749AE-C571-4FEB-81F2-8E3F4CF0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8B3F6-A704-454B-ACBB-7BDE7C187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503F3-C2CA-4788-84CE-E1DFF6EB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C796-9DF5-4CBA-9519-D928DB88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FF9C8-0B0A-4A17-B600-A28F9960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D45B89-7508-46FC-B4FF-4FDE3A32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1997-F1B6-44A0-A1B6-22AE81D88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F3831-7094-402F-B6D2-A5470014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8A1B2-3137-4B25-9968-42A30C79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91D79-447E-48C0-98DC-2ABE110B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43B19C-5A4B-4EA5-8084-F46C8848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9AB6F8-BCBF-4335-8196-B502C61A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2AB57-F28D-490E-8D9D-DEFE98A6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86EFF-A20B-4AE6-BFE4-CA1EE0DD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D93850-C2BC-4600-B9D8-C57C7C70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9D17D-60A8-4E69-BCA4-00C59891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C4DE2-9497-4328-887F-BBA3165A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43DD-48DF-4ADA-BCFC-CFD42046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F95D1-8A2A-4695-AF4E-484AB62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FD84A-7F73-4E0F-B52A-F9BD28EF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EFF24-F35E-4EFF-A08C-EA347B20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512EF-C9AF-4C05-9536-7A3EE88FB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4310-F4AD-4096-B9EB-56FF8C0C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CE7A-DAC7-41CA-9954-D5CD1862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3BD8-26AD-478B-A2A7-6BF357D9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DF7F-21E9-4031-9D46-1485FEA6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C240-65F7-48A6-8DEC-ED5A19D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796A-928B-43F9-AFB6-81F6561E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537E-09EA-4307-A5A2-35ABF90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867A-DA15-4D68-BA3B-F75FA8D7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ED84-64AC-4D81-A142-7C91CA0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9FA4-66A4-4D12-B425-7A855530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A54C-C2FF-4579-8E0D-C40C8D48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4DE1-DA0F-4FE7-973D-E97C3018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44875-F714-4051-ADB3-3EFFAD5E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C69E3-B7C2-4B90-B30C-64573EBC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07414-3130-40BF-A79C-BED82BDD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85530-E44C-4545-84BE-F74A1149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3BCA-B751-4C28-8373-5F8B1F67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E57B-4907-4144-8BAB-7CA66D30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224D4-B2EA-4C31-8CE9-9C9F3791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F745D-FB43-437C-B6C1-AFDDBFC6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3AE2B-DA66-444D-9D2A-5B793540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2D302-E4FA-414B-9180-6BE82205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C34AE-2C5D-41DA-8277-990DEE1F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D633-6F9A-4FD4-9E2E-F49F2DB2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DA19-8CB2-4EFD-B512-93EDDED9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17BA3-1B69-4E8C-9919-17E5FCD1D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DFEC-A162-44AD-91E5-0AF0DE75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0C283-E9F2-4D8F-A3F2-2B89D5C8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C30-EF15-4F1B-AFC7-CB287221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AD0A-C227-48C1-B097-D736240D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7945F-B3F9-4CF6-95C4-945859FE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E0A8-9CF6-41A9-92BA-B777DD2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F3D5-E10A-441E-9EDF-2F8CF131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961A-C602-45F2-994B-0CC54CB3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4D9D8-74AA-4B0C-B5BE-15930E3A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DBB4C-FB20-41F5-AD65-88C1ABDD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6366D-76DE-4C2F-8BD3-6B3C8D95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AD9B-54F2-4CFB-BDFE-4BAE8FC68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14E01-38CF-4818-9628-C06EF503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3545-A7AF-49F5-B322-5A246AC8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2231-E826-4E04-929E-35EE0EC6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A0525-624F-448D-8968-483A66D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DCA9F-82BA-42EB-983E-E7D73EFC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267A-0AB1-4487-B70A-C3DD231E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6866-7501-4568-962E-A384C137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B2B5B-2C12-4B3F-AACC-466AE2B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9C942-18AA-4304-A9FA-FF717BB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5D165-235B-4E46-9DD6-9B0B4F0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5926-C36F-4229-98A8-C63228F4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B7637-E71C-4E0D-89BF-5438378D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348-6D21-4127-A6BF-C874775D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9703-A0E8-407E-A89B-AE254235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03D0A-8ADC-4190-8B24-C868C669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4936F-A56E-479E-B780-C83B2FDF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6191E-02A3-4E79-B6E6-25A15289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2D24F-F794-425A-9D9A-228B3864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EC7D1-1372-49D3-A265-A0C65E1F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EE890-01BD-4C05-9C16-55D67491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E3900-64C2-45BA-A0BA-0BA7F8B0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E482C-348D-4CCF-8DBD-56140DEF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81969-4C9B-43DE-8587-4239F299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637B-1292-4525-AE70-0A32E1C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69135-BEE8-429B-8F15-00B3DB8B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0147E-5EF1-4F9C-B475-156C8315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FAD95-252E-4ADF-A1EB-C8173279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8D718-82C4-494D-AFA4-B25F2E4E4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646E4-E26D-4854-9CC7-A068F52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20FD8-F920-4DBB-A257-98F47033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77CD52-951F-461F-9C25-100612EA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9830E-C113-4EA7-86D0-E2599E6D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EA450-B4EB-4384-9DEA-504ADEC3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965A7A-4A58-405B-9D1B-51CE56D5A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1BE-84C3-4DDF-8BA3-4F529889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5C8A3-5425-4B85-8D17-A91B9B71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5EF63-A01C-45BF-9990-5177E110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263DC-E0F7-4EE0-8E36-DA8A6BFF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0DD16-6E0B-4329-8110-EED18C6AC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86C2-8DE1-4882-93B3-AB09ACF7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E120-C45A-4791-9B65-AAB43DD4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9BC84-EBC2-4E9B-BD2A-62590217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3D856-7CDD-48DC-9475-EF0DB0BB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69ED3-E4B1-48FD-8D8A-076C3861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F13BE-963E-4CB3-9ED3-1583E5A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4C4-66BD-4883-B3BB-3857E51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87AFD2-1B87-4261-9F47-016F5E71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C4418-3835-4D4D-9987-00AA4CE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4D3FB-A9CC-4021-A91E-F626C001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DA275-EC56-44B5-9C52-7B239D85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38CC7-310A-49CE-AC30-1D752EA1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CEEB-C7A6-4CCF-A8ED-3F0F21C8E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99665-6B28-424C-991D-D3AD2F51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4C9157-361D-43C9-A362-43CCDC50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000B51-3857-4555-8A89-342897E9B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0096A5-011A-401C-AE8A-2BD64A1E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2A43-82A0-4CE9-9086-DA79EBE89D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274F-3B10-41C5-AFB8-835FBDE27B5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EC36-0E7D-4046-A7A2-889940384AD3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F59D-6B0B-4591-9516-FCA0CA81B3A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4154-DB07-4BF0-81EC-2AE986DF59B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E6D8-AA1B-49CC-A07C-84A2EC88BF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6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0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1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CFE1-124F-473C-8B78-9323691811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8F7F-F8B8-4C1F-9CDB-A9E63E7DBFE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6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7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8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2E39-E897-45B8-88F2-DEB6AB9B98D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9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0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1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1354-6E34-4380-879D-CCEF90DA9DFB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0F1F-7CA5-4DAF-9455-728716428B3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834C-1DB7-414F-9701-F011345F8E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1" descr=""/>
          <p:cNvPicPr/>
          <p:nvPr/>
        </p:nvPicPr>
        <p:blipFill>
          <a:blip r:embed="rId1"/>
          <a:stretch/>
        </p:blipFill>
        <p:spPr>
          <a:xfrm>
            <a:off x="533520" y="368280"/>
            <a:ext cx="8305560" cy="6114960"/>
          </a:xfrm>
          <a:prstGeom prst="rect">
            <a:avLst/>
          </a:prstGeom>
          <a:ln w="25560">
            <a:solidFill>
              <a:srgbClr val="f96a1b"/>
            </a:solidFill>
            <a:miter/>
          </a:ln>
        </p:spPr>
      </p:pic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Your age will greatly influence your values.  Different people and things influence you at different age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9480" y="2133360"/>
            <a:ext cx="75218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1-7 --- parents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8-13 --- teachers, heroes (sports, rocks, TV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14-20 --- peers (values because of peers or peers because of values?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ges 21+ your values are established, but you may test your values from time to time</a:t>
            </a:r>
            <a:r>
              <a:rPr b="1" lang="en-US" sz="11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cision making mode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ve thought to the problem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eview your choi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valuate the consequences of each choic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sess (go over) and choose your best choic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Franklin Gothic Book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ink it over afterward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rouble ru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22240" y="1100160"/>
            <a:ext cx="7521840" cy="57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How do you determine when you can get in troubl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Ask yourself the following key questions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s it against the law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uld someone in authority get mad and I will get penalized.  (Financially or other punitive measures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uld it possible get someone else in trouble or even worst hurt someon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Is it just simply against my values and what my family has taught me?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90280" y="2232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fusal Skil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5720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te your position, truthfull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uggest alternative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Stand your ground be firm, don</a:t>
            </a:r>
            <a:r>
              <a:rPr b="1" lang="ja-JP" sz="2400" spc="-1" strike="noStrike">
                <a:solidFill>
                  <a:srgbClr val="000000"/>
                </a:solidFill>
                <a:latin typeface="Franklin Gothic Book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 allow anyone to manipulate you or persuade you to go against your values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ossible refusal lines could be the following: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Blame someone el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Ignore the reques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ay NO and mean it,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hange the subjec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Suggest something els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dbbd71"/>
                </a:solidFill>
                <a:latin typeface="Arial"/>
              </a:rPr>
              <a:t>“</a:t>
            </a: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If you stand for nothing.</a:t>
            </a:r>
            <a:br>
              <a:rPr sz="6000"/>
            </a:b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  </a:t>
            </a:r>
            <a:br>
              <a:rPr sz="6000"/>
            </a:br>
            <a:r>
              <a:rPr b="1" lang="en-US" sz="6000" spc="-1" strike="noStrike">
                <a:solidFill>
                  <a:srgbClr val="dbbd71"/>
                </a:solidFill>
                <a:latin typeface="Bradley Hand ITC"/>
              </a:rPr>
              <a:t>You fall for anything.</a:t>
            </a:r>
            <a:r>
              <a:rPr b="1" lang="ja-JP" sz="6000" spc="-1" strike="noStrike">
                <a:solidFill>
                  <a:srgbClr val="dbbd71"/>
                </a:solidFill>
                <a:latin typeface="Arial"/>
              </a:rPr>
              <a:t>”</a:t>
            </a: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5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s a value/values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825120" y="1142640"/>
            <a:ext cx="752148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are defined as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RULES, GUIDEINES, GOALS, BELIEFS </a:t>
            </a:r>
            <a:r>
              <a:rPr b="1" lang="is-IS" sz="28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Our values affect our decisions and behavior.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define what is of worth, what is beneficial, and what is harmful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Values are standards to guide your actions, judgments, and attitudes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" dur="1" fill="hold"/>
                                  <p:tgtEl>
                                    <p:spTgt spid="58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dd7d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 txBox="1"/>
          <p:nvPr/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You have been given a check for $10,00.00 to do whatever you like with it.  What would you do with it?</a:t>
            </a: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hare with a partner what you would do with it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Discussion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What you spend the money on has everything to do with what you value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What things did you do during the past week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2187720"/>
            <a:ext cx="8229600" cy="25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Franklin Gothic Book"/>
              </a:rPr>
              <a:t>What you choose to do with your time also has everything to do with what you values.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214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ow do values help us? Why are they Important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533160" y="1828440"/>
            <a:ext cx="7521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ey help you decide Right from Wrong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Good vs. Bad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orale vs. Immoral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 algn="ctr">
              <a:lnSpc>
                <a:spcPct val="2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Important vs. Unimportant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 txBox="1"/>
          <p:nvPr/>
        </p:nvSpPr>
        <p:spPr>
          <a:xfrm>
            <a:off x="457200" y="3276720"/>
            <a:ext cx="38815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mmaturity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nclear val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Drifter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lighty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Uncertai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pathetic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181120" y="3276360"/>
            <a:ext cx="350532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aturity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ear value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ife of purpo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Meaning and directio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Hypocrite – One who subscribes to one set of values, and does another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mmaturity  - One who has not identified his values</a:t>
            </a: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 txBox="1"/>
          <p:nvPr/>
        </p:nvSpPr>
        <p:spPr>
          <a:xfrm>
            <a:off x="822240" y="2209320"/>
            <a:ext cx="75218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give direction and consistency to behavior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help you know what to and not to make time for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establish a relationship between you and the world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Values set the direction for one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s life. 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5" name="Rectangle 5"/>
          <p:cNvSpPr/>
          <p:nvPr/>
        </p:nvSpPr>
        <p:spPr>
          <a:xfrm>
            <a:off x="533520" y="685800"/>
            <a:ext cx="6858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on: </a:t>
            </a:r>
            <a:br>
              <a:rPr sz="28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ues – Goals – Behavior – Self-val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98" fill="hold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98" fill="hold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98" fill="hold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533520" y="99072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our home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chool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ociety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riend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V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hurch,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music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book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families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495320" y="990360"/>
            <a:ext cx="40338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culture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employers, government,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ime-period in which you were raised (7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anti-establishment, peace, individuality.  8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money, prestige, don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t get caught, etc.  90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s earth, green peace, health and fitness), etc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7581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Where do we get values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ostly from our environmen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aff</cp:lastModifiedBy>
  <dcterms:modified xsi:type="dcterms:W3CDTF">2016-09-08T01:03:39Z</dcterms:modified>
  <cp:revision>14</cp:revision>
  <dc:subject/>
  <dc:title>PowerPoint Presentation</dc:title>
</cp:coreProperties>
</file>